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25F-0CFA-451B-9D52-56E601AC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1CB-AD13-4F73-B889-978F1102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E0C-343A-4878-AF43-914B480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FC8-30DC-4040-B796-EDCE88FF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8F-712C-4292-8F42-CF03F2A2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B92-8616-4D7F-B676-1449F61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445-07C5-467E-8F06-D29165C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9BB-3BB4-4951-8CA6-74C46233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7C7-2E01-45E6-B893-600A0D53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802-046A-4ED0-B558-2890BDF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73E-D2C4-4424-834B-12D38FC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B9E-11EC-4F0D-B04A-64EEB4D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F01-130C-441D-94D7-5BF16A9B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905120" y="2819520"/>
          <a:ext cx="274320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819520"/>
                    <a:ext cx="2743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05320" y="5638680"/>
            <a:ext cx="2057400" cy="762120"/>
          </a:xfrm>
          <a:custGeom>
            <a:avLst/>
            <a:gdLst>
              <a:gd name="textAreaLeft" fmla="*/ 168120 w 2057400"/>
              <a:gd name="textAreaRight" fmla="*/ 1889280 w 2057400"/>
              <a:gd name="textAreaTop" fmla="*/ 168120 h 762120"/>
              <a:gd name="textAreaBottom" fmla="*/ 5940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3523" y="4770"/>
                </a:lnTo>
                <a:lnTo>
                  <a:pt x="4770" y="477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3523" y="16830"/>
                </a:lnTo>
                <a:lnTo>
                  <a:pt x="53523" y="477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4770" y="16830"/>
                </a:lnTo>
                <a:lnTo>
                  <a:pt x="53523" y="1683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4770" y="4770"/>
                </a:lnTo>
                <a:lnTo>
                  <a:pt x="4770" y="16830"/>
                </a:lnTo>
                <a:close/>
              </a:path>
              <a:path fill="darken" w="58293" h="21600">
                <a:moveTo>
                  <a:pt x="24652" y="8556"/>
                </a:moveTo>
                <a:lnTo>
                  <a:pt x="25238" y="8556"/>
                </a:lnTo>
                <a:lnTo>
                  <a:pt x="25484" y="8790"/>
                </a:lnTo>
                <a:lnTo>
                  <a:pt x="31391" y="8790"/>
                </a:lnTo>
                <a:lnTo>
                  <a:pt x="31749" y="9147"/>
                </a:lnTo>
                <a:lnTo>
                  <a:pt x="31749" y="9499"/>
                </a:lnTo>
                <a:lnTo>
                  <a:pt x="32932" y="9499"/>
                </a:lnTo>
                <a:lnTo>
                  <a:pt x="33167" y="9147"/>
                </a:lnTo>
                <a:lnTo>
                  <a:pt x="33641" y="9147"/>
                </a:lnTo>
                <a:lnTo>
                  <a:pt x="33641" y="12453"/>
                </a:lnTo>
                <a:lnTo>
                  <a:pt x="33167" y="12453"/>
                </a:lnTo>
                <a:lnTo>
                  <a:pt x="32932" y="12101"/>
                </a:lnTo>
                <a:lnTo>
                  <a:pt x="31749" y="12101"/>
                </a:lnTo>
                <a:lnTo>
                  <a:pt x="31749" y="12922"/>
                </a:lnTo>
                <a:lnTo>
                  <a:pt x="25601" y="12922"/>
                </a:lnTo>
                <a:lnTo>
                  <a:pt x="25601" y="10208"/>
                </a:lnTo>
                <a:lnTo>
                  <a:pt x="25484" y="10208"/>
                </a:lnTo>
                <a:lnTo>
                  <a:pt x="25238" y="10443"/>
                </a:lnTo>
                <a:lnTo>
                  <a:pt x="24652" y="10443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FOTO MA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1828800"/>
            <a:ext cx="3124080" cy="398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Und so funktioniert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Setzen Sie sich gegenüber ihres Bildschir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Schauen Sie direkt in das Objekti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Drücken S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  ”</a:t>
            </a: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FOTO MACHE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BEWEGEN SIE SICH NICHT WÄHREND SIE FOTOGRAFIERT WERDEN!!! Der Vorgang dauert einige Sekun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</a:rPr>
              <a:t>Drücken Sie “FOTO MACHEN”, wenn Sie bereit si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79480"/>
            <a:ext cx="4953240" cy="106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ff00"/>
                </a:solidFill>
                <a:latin typeface="Arial"/>
              </a:rPr>
              <a:t>Hier sehen Sie einen Test der neuen Technologie von SONY. Mit diesem neuen System wird ihr Bildschirm in einen digitalen Fotoapparat umgewandelt und Sie können ein Foto mac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905120" y="2819520"/>
          <a:ext cx="274320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819520"/>
                    <a:ext cx="2743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05320" y="5638680"/>
            <a:ext cx="2057400" cy="762120"/>
          </a:xfrm>
          <a:custGeom>
            <a:avLst/>
            <a:gdLst>
              <a:gd name="textAreaLeft" fmla="*/ 168120 w 2057400"/>
              <a:gd name="textAreaRight" fmla="*/ 1889280 w 2057400"/>
              <a:gd name="textAreaTop" fmla="*/ 168120 h 762120"/>
              <a:gd name="textAreaBottom" fmla="*/ 5940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3523" y="4770"/>
                </a:lnTo>
                <a:lnTo>
                  <a:pt x="4770" y="477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3523" y="16830"/>
                </a:lnTo>
                <a:lnTo>
                  <a:pt x="53523" y="477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4770" y="16830"/>
                </a:lnTo>
                <a:lnTo>
                  <a:pt x="53523" y="1683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4770" y="4770"/>
                </a:lnTo>
                <a:lnTo>
                  <a:pt x="4770" y="16830"/>
                </a:lnTo>
                <a:close/>
              </a:path>
              <a:path fill="darken" w="58293" h="21600">
                <a:moveTo>
                  <a:pt x="24652" y="8556"/>
                </a:moveTo>
                <a:lnTo>
                  <a:pt x="25238" y="8556"/>
                </a:lnTo>
                <a:lnTo>
                  <a:pt x="25484" y="8790"/>
                </a:lnTo>
                <a:lnTo>
                  <a:pt x="31391" y="8790"/>
                </a:lnTo>
                <a:lnTo>
                  <a:pt x="31749" y="9147"/>
                </a:lnTo>
                <a:lnTo>
                  <a:pt x="31749" y="9499"/>
                </a:lnTo>
                <a:lnTo>
                  <a:pt x="32932" y="9499"/>
                </a:lnTo>
                <a:lnTo>
                  <a:pt x="33167" y="9147"/>
                </a:lnTo>
                <a:lnTo>
                  <a:pt x="33641" y="9147"/>
                </a:lnTo>
                <a:lnTo>
                  <a:pt x="33641" y="12453"/>
                </a:lnTo>
                <a:lnTo>
                  <a:pt x="33167" y="12453"/>
                </a:lnTo>
                <a:lnTo>
                  <a:pt x="32932" y="12101"/>
                </a:lnTo>
                <a:lnTo>
                  <a:pt x="31749" y="12101"/>
                </a:lnTo>
                <a:lnTo>
                  <a:pt x="31749" y="12922"/>
                </a:lnTo>
                <a:lnTo>
                  <a:pt x="25601" y="12922"/>
                </a:lnTo>
                <a:lnTo>
                  <a:pt x="25601" y="10208"/>
                </a:lnTo>
                <a:lnTo>
                  <a:pt x="25484" y="10208"/>
                </a:lnTo>
                <a:lnTo>
                  <a:pt x="25238" y="10443"/>
                </a:lnTo>
                <a:lnTo>
                  <a:pt x="24652" y="10443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FOTO MA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828800"/>
            <a:ext cx="6095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AS LICHT IST NICHT AUSREICH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er Apparat wird eine automatische Korrektur des Lichtes und eine Angleichung des Hintergrundes vor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  <a:hlinkClick r:id="rId2"/>
          </p:cNvPr>
          <p:cNvSpPr/>
          <p:nvPr/>
        </p:nvSpPr>
        <p:spPr>
          <a:xfrm>
            <a:off x="3657600" y="4648320"/>
            <a:ext cx="2057400" cy="457200"/>
          </a:xfrm>
          <a:custGeom>
            <a:avLst/>
            <a:gdLst>
              <a:gd name="textAreaLeft" fmla="*/ 95040 w 2057400"/>
              <a:gd name="textAreaRight" fmla="*/ 1962360 w 20574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2641" y="4500"/>
                </a:lnTo>
                <a:lnTo>
                  <a:pt x="4500" y="45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2641" y="17100"/>
                </a:lnTo>
                <a:lnTo>
                  <a:pt x="92641" y="45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4500" y="17100"/>
                </a:lnTo>
                <a:lnTo>
                  <a:pt x="92641" y="171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4500" y="4500"/>
                </a:lnTo>
                <a:lnTo>
                  <a:pt x="4500" y="17100"/>
                </a:lnTo>
                <a:close/>
              </a:path>
              <a:path fill="darken" w="97141" h="21600">
                <a:moveTo>
                  <a:pt x="43874" y="8455"/>
                </a:moveTo>
                <a:lnTo>
                  <a:pt x="44487" y="8455"/>
                </a:lnTo>
                <a:lnTo>
                  <a:pt x="44744" y="8700"/>
                </a:lnTo>
                <a:lnTo>
                  <a:pt x="50915" y="8700"/>
                </a:lnTo>
                <a:lnTo>
                  <a:pt x="51289" y="9073"/>
                </a:lnTo>
                <a:lnTo>
                  <a:pt x="51289" y="9441"/>
                </a:lnTo>
                <a:lnTo>
                  <a:pt x="52525" y="9441"/>
                </a:lnTo>
                <a:lnTo>
                  <a:pt x="52770" y="9073"/>
                </a:lnTo>
                <a:lnTo>
                  <a:pt x="53266" y="9073"/>
                </a:lnTo>
                <a:lnTo>
                  <a:pt x="53266" y="12527"/>
                </a:lnTo>
                <a:lnTo>
                  <a:pt x="52770" y="12527"/>
                </a:lnTo>
                <a:lnTo>
                  <a:pt x="52525" y="12159"/>
                </a:lnTo>
                <a:lnTo>
                  <a:pt x="51289" y="12159"/>
                </a:lnTo>
                <a:lnTo>
                  <a:pt x="51289" y="13017"/>
                </a:lnTo>
                <a:lnTo>
                  <a:pt x="44866" y="13017"/>
                </a:lnTo>
                <a:lnTo>
                  <a:pt x="44866" y="10182"/>
                </a:lnTo>
                <a:lnTo>
                  <a:pt x="44744" y="10182"/>
                </a:lnTo>
                <a:lnTo>
                  <a:pt x="44487" y="10427"/>
                </a:lnTo>
                <a:lnTo>
                  <a:pt x="43874" y="10427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FOTO ENTWICK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5800" y="279252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ff00"/>
                </a:solidFill>
                <a:latin typeface="Arial"/>
              </a:rPr>
              <a:t>100% vollstän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9200" y="3368520"/>
            <a:ext cx="3500640" cy="2923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97164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448920" y="57913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4952880" cy="19051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Jeden Tag ein bißchen hübscher!!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5105520" y="0"/>
            <a:ext cx="3730320" cy="6857280"/>
            <a:chOff x="5105520" y="0"/>
            <a:chExt cx="3730320" cy="6857280"/>
          </a:xfrm>
        </p:grpSpPr>
        <p:graphicFrame>
          <p:nvGraphicFramePr>
            <p:cNvPr id="60" name=""/>
            <p:cNvGraphicFramePr/>
            <p:nvPr/>
          </p:nvGraphicFramePr>
          <p:xfrm>
            <a:off x="5105520" y="0"/>
            <a:ext cx="3730320" cy="631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730320" cy="63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211000" y="4252320"/>
              <a:ext cx="3284640" cy="26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920" y="1447920"/>
            <a:ext cx="4038480" cy="3276360"/>
          </a:xfrm>
          <a:prstGeom prst="wedgeRoundRectCallout">
            <a:avLst>
              <a:gd name="adj1" fmla="val 76731"/>
              <a:gd name="adj2" fmla="val -13662"/>
              <a:gd name="adj3" fmla="val 16667"/>
            </a:avLst>
          </a:pr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Sie müssen schon sehr dämlich sein, wenn Sie glauben mit ihrem Bildschirm könnten Sie ein Foto von sich mac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rück ESC und mach Deinen Job weiter, Schwachkop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njamin Lutz</cp:lastModifiedBy>
  <dcterms:modified xsi:type="dcterms:W3CDTF">2001-04-07T04:20:09Z</dcterms:modified>
  <cp:revision>8</cp:revision>
  <dc:subject/>
  <dc:title>No Slide Title</dc:title>
</cp:coreProperties>
</file>